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2E70-C868-4DF3-AE6E-616F14EF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A01B-40F3-4761-962C-BF8109BD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ABE7-6094-4010-A731-557055A9D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01FC-01B3-4C26-A1E8-0B70F978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51C7-060C-4311-AFF0-9B827804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3DC2-0FBB-47B1-B790-E9B53EA3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275E-4B4E-4F60-AA17-49E57883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67A2-2308-427E-8CAC-7EDCA68C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480"/>
            <a:ext cx="8001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9375-FAF9-40AC-9BB1-D0E5F1E3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F957-1268-4C16-BD33-FCCB8964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C5C8-54E7-41E6-9EC7-4B0FF682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88C6-AACA-42B4-A95F-7491F169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1" marL="579240" indent="-22284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2" marL="89136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3" marL="124812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4" marL="160452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5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6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4820-28E1-4266-A587-9EBBFF53D1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bp0.blogger.com/_TZ4zYEBSw1I/R6JKtXGTxGI/AAAAAAAADhQ/bLwjG4oVrTc/s400/dred_scott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The Politics of Slavery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Chapter 4.1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Kansas Nebraska Act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Senator Stephen Douglas proposed that each territory should be allowed to vote on slavery status (popular sovereignty). 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Act passed in 1854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724280" y="3352680"/>
            <a:ext cx="3794400" cy="32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“</a:t>
            </a: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Bleeding” Kansas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After Kansas-Nebraska act, thousands crossed the Kansas border to vote in favor of slavery.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They voted, and Kansas was now pro-slavery.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Abolitionists protested and violence ensued, giving it the nickname “bleeding” Kansas.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New Political Parties Emerge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Whigs were split.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Democrats remained 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Republicans emerged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Know-Nothings-emerged-split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Dred Scot Decision: 1857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Slave whose owner took him from a slave state to free state.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Supreme Court ruled that he was still a slave.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Sectional passions exploded.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</p:txBody>
      </p:sp>
      <p:pic>
        <p:nvPicPr>
          <p:cNvPr id="7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10280" y="4648320"/>
            <a:ext cx="12621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Lincoln-Douglas Debates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C Futura Casual"/>
              </a:rPr>
              <a:t>After Dred Scott, one of our greatest political races emerged.</a:t>
            </a:r>
            <a:endParaRPr b="0" lang="en-US" sz="40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C Futura Casual"/>
              </a:rPr>
              <a:t>Stephen Douglas and Abraham Lincoln were both vying for a seat in the Illinois state Senate.</a:t>
            </a:r>
            <a:endParaRPr b="0" lang="en-US" sz="40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Lincoln-Douglas Debates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C Futura Casual"/>
              </a:rPr>
              <a:t>Lincoln challenged Douglas to debate the issue of slavery with him.</a:t>
            </a:r>
            <a:endParaRPr b="0" lang="en-US" sz="4000" spc="-1" strike="noStrike">
              <a:solidFill>
                <a:srgbClr val="ffffff"/>
              </a:solidFill>
              <a:latin typeface="CAC Futura Casual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C Futura Casual"/>
              </a:rPr>
              <a:t>Douglas accepted the challenge, and this set off some of the most celebrated debates in United States history.</a:t>
            </a:r>
            <a:endParaRPr b="0" lang="en-US" sz="40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Lincoln-Douglas Debates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Neither wanted slavery, but they disagreed on how to keep it out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Douglas won the Senate Seat, but split the Democratic party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pic>
        <p:nvPicPr>
          <p:cNvPr id="80" name="" descr="Enter the Lincoln-Douglas Debates of 1858 website"/>
          <p:cNvPicPr/>
          <p:nvPr/>
        </p:nvPicPr>
        <p:blipFill>
          <a:blip r:embed="rId2"/>
          <a:stretch/>
        </p:blipFill>
        <p:spPr>
          <a:xfrm>
            <a:off x="1447920" y="4800600"/>
            <a:ext cx="621036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0708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724280" y="0"/>
            <a:ext cx="43927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Lincoln Emerges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Despite losing the race, Lincoln became known for his attacks on the “moral ground” regarding slavery.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He drew national attention, and some Republicans began thinking of him as a potential candidate for the 1860 presidency.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Harpers Ferry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C Futura Casual"/>
              </a:rPr>
              <a:t>Abolitionist John Brown organized a slave rebellion in Harper’s Ferry, VA.  </a:t>
            </a:r>
            <a:endParaRPr b="0" lang="en-US" sz="40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C Futura Casual"/>
              </a:rPr>
              <a:t>The rebellion was stopped, Brown was tried and executed.</a:t>
            </a:r>
            <a:endParaRPr b="0" lang="en-US" sz="40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C Futura Casual"/>
              </a:rPr>
              <a:t>His execution again sprung violence against whites and blacks alike.</a:t>
            </a:r>
            <a:endParaRPr b="0" lang="en-US" sz="40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Sectional Differences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Centuries of differences divided the cultures of the North and South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The regions were noticeably different by the 1850s in their religious and cultural traditions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Southern dependence on slavery soon increased tensions between the regions and eventually brought them to a conflict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Election of 1860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C Futura Casual"/>
              </a:rPr>
              <a:t>Abraham Lincoln is Elected 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AC Futura Casu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CAC Futura Casual"/>
              </a:rPr>
              <a:t> Republican President.</a:t>
            </a:r>
            <a:endParaRPr b="0" lang="en-US" sz="40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C Futura Casual"/>
              </a:rPr>
              <a:t>Received less than half the popular vote, no electoral votes from the south.</a:t>
            </a:r>
            <a:endParaRPr b="0" lang="en-US" sz="40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C Futura Casual"/>
              </a:rPr>
              <a:t>The outlook for the Union was very grim.</a:t>
            </a:r>
            <a:endParaRPr b="0" lang="en-US" sz="40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Southern Secession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Lincoln’s victory convinced Southerners that they had lost their political voice in the federal government.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ome southern states decided to act.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Southern Secession</a:t>
            </a: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outh Carolina led the was, seceding from the Union on December 20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C Futura Casual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, 1860.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Mississippi followed, as did Florida, Alabama, Georgia, Louisiana, and Texas.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Southern Secession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In 1861, delegates from these states met in Alabama where they formed the Confederate States of America,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AC Futura Casual"/>
              </a:rPr>
              <a:t>Confederacy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Elected Jefferson Davis as President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8320" y="4346640"/>
            <a:ext cx="408600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A Nation Divided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-The North had heard threats of secession before, no one was shocked.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-Now the question was, would they let the South leave without a fight?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pic>
        <p:nvPicPr>
          <p:cNvPr id="102" name="" descr="Map of the Union and Confederate States"/>
          <p:cNvPicPr/>
          <p:nvPr/>
        </p:nvPicPr>
        <p:blipFill>
          <a:blip r:embed="rId2"/>
          <a:stretch/>
        </p:blipFill>
        <p:spPr>
          <a:xfrm>
            <a:off x="304920" y="304920"/>
            <a:ext cx="8458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Sectional Differences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South relied on slavery to boost plantation economy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Northern opposition to slavery intensified as new territories and states were admitted to the Union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629400" y="3809880"/>
            <a:ext cx="19144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Slavery in the Territories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The issue of slavery in California and in the west led to heated debates in the halls of Congress, and eventually led to a fragile compromise.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629400" y="3581280"/>
            <a:ext cx="21304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The Compromise of 1850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Threats of Souther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CAC Futura Casual"/>
              </a:rPr>
              <a:t>Secession</a:t>
            </a: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, the formal withdrawal of a state from the Union, became more frequent.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The issue was over California’s statehood, free or slave? 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A compromise was needed!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The Compromise of 1850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C Futura Casual"/>
              </a:rPr>
              <a:t>After 8 months of arguments, a compromise was reached.  Under this compromise: </a:t>
            </a:r>
            <a:endParaRPr b="0" lang="en-US" sz="4000" spc="-1" strike="noStrike">
              <a:solidFill>
                <a:srgbClr val="ffffff"/>
              </a:solidFill>
              <a:latin typeface="CAC Futura Casu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California was admitted to the Union as a free state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A ne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CAC Futura Casual"/>
              </a:rPr>
              <a:t>fugitive slave law</a:t>
            </a:r>
            <a:r>
              <a:rPr b="0" lang="en-US" sz="3600" spc="-1" strike="noStrike">
                <a:solidFill>
                  <a:srgbClr val="ffffff"/>
                </a:solidFill>
                <a:latin typeface="CAC Futura Casual"/>
              </a:rPr>
              <a:t> was enacted in the Utah and N.M. Territory, allowing the territories to decide.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Popular Sovereignty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Each territory governed under “popular sovereignty” had the opportunity to vote for or against slavery (N.M. and Utah)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590920" y="3276720"/>
            <a:ext cx="3709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Protest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AC Futura Casual"/>
              </a:rPr>
              <a:t>Underground Railroad:</a:t>
            </a: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 system of hiding fugitive slaves and escorting them to the North, out of reach of their owners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Harriet Tubman, famous for helping 300 slaves flee to the North, made 19 trips in all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14600" y="4419720"/>
            <a:ext cx="128124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Uncle Tom’s Cabin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Novel published in 1852 by Harriet Beecher Stowe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Expressed hatred and moral standing of slavery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C Futura Casual"/>
              </a:rPr>
              <a:t>Stirred northerners and all Americans to question slavery in general.</a:t>
            </a:r>
            <a:endParaRPr b="0" lang="en-US" sz="3200" spc="-1" strike="noStrike">
              <a:solidFill>
                <a:srgbClr val="ffffff"/>
              </a:solidFill>
              <a:latin typeface="CAC Futura Casu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553080" y="4191120"/>
            <a:ext cx="13622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6:10:35Z</dcterms:created>
  <dc:creator>Kyle Steinkuhler</dc:creator>
  <dc:description/>
  <dc:language>en-US</dc:language>
  <cp:lastModifiedBy>Kyle Steinkuhler</cp:lastModifiedBy>
  <dcterms:modified xsi:type="dcterms:W3CDTF">2008-10-09T16:20:25Z</dcterms:modified>
  <cp:revision>7</cp:revision>
  <dc:subject/>
  <dc:title>The Politics of Slavery</dc:title>
</cp:coreProperties>
</file>